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095-BDF8-47FD-AA94-E109E09A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5D8-AC80-4CF1-8BAD-BF86FEA5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6457D-E944-46E0-B5F6-A027919D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D568D-76BA-4498-A8A4-9F5EC54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84AB8-4E1B-443B-A813-C1375642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AC3FE-9F06-4A3F-939B-DEB2B007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0CB9F-B452-48E9-B0E5-DD93A420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0D8D4-BCCD-4163-9B71-3FBE8890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0A53C-0B4B-478E-8F31-893F907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8AD6B-506E-41E4-8344-F2FFE713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E86BF-2E2E-4DAA-B6C7-06DED817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4A9E8-17AF-4B61-817A-15A48EED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C78-E8EB-4161-8441-84D1DABE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68093-B08D-4F7A-A11F-B463BB71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E924C-EBCA-4852-BB53-52C1F69D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EE465-4DD9-4423-A53E-FFA9CBE8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ADCE3-81FE-437C-9D56-3586F546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F6CF2-377B-45B7-B982-10C48D62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F3122-4266-43EF-A875-A6CE581A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F6E59-85F6-4B70-B2A4-9BC62AF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182D0-CC7D-4CC1-9E01-9FAEC40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0DA3A-EDAA-49AC-B1B1-794DCF8D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8F8FC-41F5-43D6-9F1E-7B517FBC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069-FFCD-4C93-AF76-39123A1F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CB7DD-A2C5-4EA5-8FF3-3B2E0451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E6795-2690-47FD-BD0C-6F53F834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B25BC-0BB9-4298-A852-92981D96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A58D3-D2EE-4DE3-AF2A-F9FC9D5D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E2489-A3D9-4CE3-884D-F53C4C46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D51C6-B289-4971-9177-14738500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84EBA-112F-4619-AD6D-906FC75D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E9326-6103-4B7C-9EDC-4B08BA2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69BDF-AB23-4C40-A940-1921E09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EAC81-DDF6-402D-893D-65A6990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775-49F5-4910-BB5A-F927A005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F45FE-2A27-4A42-A3EC-DC92D18E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EC469-FE17-4BA0-8855-D1C1D312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0D439-D42B-4FF3-B30D-D846C4F8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D9F5F-6D47-4F69-9B22-03B193A8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939C9-5050-493A-BBBA-47BA933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54D3A-F4EB-45FA-9EF7-B0F0F653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2FD6E-D445-4F14-A9BE-CA3B631B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A3087-5231-4959-9023-5B1D2FC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A2D14-EB6B-4900-A17E-03BE6D38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D4507-8F75-41C6-AD66-FE83C44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41D3-8204-4739-8E7F-8C701FF3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FEEC5-637C-4936-8048-50194BE6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E590C-1A5A-4944-B3D7-5E15E50E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AD23E-8264-4B0C-9F78-801B3037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85BD0-BD3E-4206-8EC4-D47CF997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89E1E-ECB9-45A9-A0C1-9D0E7E9B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37EB-B398-4600-A50B-780F5FAB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9773-E266-4AF1-BE3E-BF8C775B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1C44-79F6-405F-B591-0F6C0B2B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4F20-95EB-4430-AA2E-9F10975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5B5D-9F0E-4024-9C7D-88ED1188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6CC-12AC-470E-A97F-53302311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866A-AA24-4986-B7EB-C7582FA5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27A9-7D6E-45C4-BCFA-0C3B6DD9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F894-3A7F-4493-A7FB-5D6E07D4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7B3B-8BD7-47A2-9838-AA9FF948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3F77-4F05-4F27-8AA2-6467C19B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23E9-663C-4FB6-8809-BA1F44BF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B98C-C990-4D78-9DC6-3E9BEAB7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AE9F-7E55-440B-9EED-F179C641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B7CE-96B1-47B4-AF7C-87F4F355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2A34-F4C2-454E-8447-F547D084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DBE-246C-48E3-A1D0-9DDEDEE2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4DBF-0303-4D23-972C-E7AACA94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4F80-197C-420F-A8C8-45EBC77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CA41-D891-48C4-A9BA-C44B052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1994-C0F1-4136-ABB1-E0AE28F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C937-FA7D-4073-80DD-6CA3C947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131A-1D02-47D7-9A8D-345E2DB2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F782-3331-4C0C-A9D9-36EF71CB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7FBA-B361-49D1-BFD9-2EDC2625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63CC-DC1B-455B-B783-2861376B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23B5-6779-442D-BCCE-FC9424C2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8FB-0BDA-40A0-86F9-FCD74148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46C0-36BB-4F93-8F7F-ED34F4C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D06F-158A-4319-9003-002D99F8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6AF2-29B9-4272-91B8-E90C9642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8D1D-9EE7-47DC-BF7B-848E03E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C9B7-FE64-4808-AEE7-4929BA2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18A7-A4EC-45E0-A749-BA99106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0785-0AD1-48F1-AFEB-B5A98856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4AF3-207E-4C33-8985-EDB214A5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4186-15A3-4C42-95F9-074B2567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4A05A-2531-4B8C-A041-4DA96152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A71-6194-466C-A431-9F1FBCBD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68143-F785-4299-A384-4E34F963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EBEE8-79A7-4541-96C8-0D41FFDA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2BBEC-1479-48DD-8B6A-2D212B07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88734-1B7F-44B3-8056-C9773DD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0C7EE-1E20-49AF-8BAC-CC97B83E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159A4-1F23-48AB-9288-B1F1489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F28E-A4BB-40A9-8F8C-EB13EA01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E189D-60CD-4B2F-94C8-622D66F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3D28-6178-4CBE-9AF7-BA3E9E96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733D-8F83-446C-8FCE-410403AC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2F8-1DB0-4B7A-B870-5D8E0E70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860C3-5B27-4AA5-BEC9-F69E0EFE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071A-FEA8-41B0-B1F0-357BB842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A1A39-5C16-481D-921E-FD83D78C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6F517-03F0-41E9-BC32-AA42C486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5C984-8550-4573-94C3-84E68C33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8F882-649F-420F-ADF3-43C4AC23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1704B-79C3-4CF4-BED9-BFA965E9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27B0D-3C10-4503-A457-4582F17D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B24CE-124B-4941-97FA-DE4C2E4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B2D56-4BA5-40BF-9E16-B17BC888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451-05EC-4345-8652-AD4C1DC3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0780C-D496-4F4E-80C7-26199F04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BC00D-FBA3-42AB-A4E5-95057261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DB4AC-34D0-4E3F-B787-7B7F6C5E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8C24D-FDB4-45BE-96DB-8C599724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DA18A-A150-48D4-9DF3-51D9349E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7CC0E-F9E8-4EE1-8ED2-6BFC4BC5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19C6F-5D62-4B96-A961-BD3E7FC2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00A3D-5CE3-4E13-A04F-943A4D30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BD1C6-85C4-4DAF-9BD8-2F094C16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9A335-FE8B-408B-A4B3-90EE13F5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F52-A212-4C27-89EE-4E651D01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C413F-DB52-4E1C-8EB2-22774F8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E4367-D182-4D2A-A8A4-EB04849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7C58-3550-4DAE-A9AA-42C18095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FCD3B-D6C8-49E8-ADEE-4CF54EB5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503C8-8A28-47F6-8136-E0DEBB2E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06566-8218-4674-B5BB-CF9B8424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56525-414D-4617-8464-DD16C54E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A452E-0BC4-46A4-88D6-7F1D8DAF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F7A92-AB59-4D35-B6D7-E9CC4036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2A71C-881F-4421-9F4B-1ECC2F1D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3A3-75D7-41A6-8BCA-B1EE7377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58739-5FB5-42E3-8E0C-90AF8974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9E7AD-E81E-4803-9E62-D123D81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96B6-F1D0-4BE3-8C09-28EB6D0F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35FCC-4F4A-470B-925F-6310804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A73B7-646F-47C2-AE88-A5D995E1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8A7F0-CA80-4F74-96E2-F5CA6675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D08A2-6FDB-4725-B1BC-EDF46A19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B1D26-8D4E-47E3-9C61-BF8B7A0D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FFBC6-B7AD-4952-8D26-C4E4AAB7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04430-D3C6-4DE5-A479-430F20DC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7E07-081D-4661-A6F5-235D08A333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0904-1FC9-4BD9-9CB7-34A40BD817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09E8-9438-4766-BE42-354145A9B80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A358-DFFA-4E5F-B057-02DACFA044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F618-A908-46B6-839C-3E3BC15AD3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9793-FC51-4B07-AFDD-364CA58483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DFAD-93E5-4796-AAFE-68BE1631B0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2D44-00D0-4DB1-8EB8-6FD05344D8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592F-8014-4376-A127-24675C7E91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FA95-0720-4D77-8712-46C917E7AD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C4AB-97DF-4ED4-A52E-B90269D7FF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8CCD-009F-4526-8855-916B85BFA6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8 Pán Ježiš je mi všetký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šťastím srdce spie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okoj doň mi vlie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byť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je mi všetk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Pastier môj i Krá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biedny som bol predt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om ho nepozn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ám ma neoslov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 prázdny život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 on sa ku mne sklon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íšil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šťastím srdce spie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okoj doň mi vlie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by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chodiť s Pánom den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jeho rady db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erne v jeho me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tále boj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čo on chystá pre mň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or tiesne z úskal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radosť zo spase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ič tu neska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šťastím srdce spie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okoj doň mi vlie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musím by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záleží len na t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v Bohu bohat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nechcem striebro, zlat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vzácne pokla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najväčší dar n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lásku Kristov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iac mi ešte treb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ceste k domov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42:14Z</dcterms:modified>
  <cp:revision>32</cp:revision>
  <dc:subject/>
  <dc:title>Je veľký náš Pán, on slávy je Kráľ Nech do všetkých strán  spev vrúcnych znie chvál.</dc:title>
</cp:coreProperties>
</file>